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002D-6D55-4DA3-ABAC-9FBE5002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9285-5620-4F3F-B437-48CC368E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F1E8-DF54-4D19-984F-C692134D7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3325-68D1-49A7-A19B-9874310D8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335B-6AD4-4E97-B145-F8EC1BC6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0D68-E8A3-461D-AAC6-8F7E75D2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8B91-6E3D-4221-AAED-251C0C05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1202-4A31-4088-B309-C44DEFE0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80FB-E6F1-4A76-8CAB-5ABC5CDB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8798-A084-4379-A409-3211EFD7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4640-2D61-4F83-B70C-978EB9E3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FEEA-6F4C-4FD3-A74D-28B1B4B2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1D3B-10B7-450D-9C58-683183CA5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en.wikipedia.org/wiki/Education_in_Italy" TargetMode="External"/><Relationship Id="rId3" Type="http://schemas.openxmlformats.org/officeDocument/2006/relationships/hyperlink" Target="http://library.thinkquest.org/CRO212302/italy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y Inquiry Ques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at would it be like to be in an Italian school and how would it be different to a N.Z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659640" y="404640"/>
            <a:ext cx="1949400" cy="2086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24000" y="4869000"/>
            <a:ext cx="1612800" cy="1711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00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How many Stages are Ther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There are 5 stages to school and they a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Kindergar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Elementary (Primary)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Middle (Intermediate)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High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 rot="20557200">
            <a:off x="5716440" y="5251320"/>
            <a:ext cx="23241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00ff00"/>
                    </a:gs>
                  </a:gsLst>
                  <a:lin ang="6444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5 Stag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00ff00"/>
                  </a:gs>
                </a:gsLst>
                <a:lin ang="6444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020000" y="249228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What Subjects does a Normal Italian Student Lea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se are the subjects that a normal Italian student would lear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tal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Life and Earth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ocial Sciences (Landscape Lear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hysical Education (P.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Visual and Musical 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se have some of the subjects we learn and some we don’t like Life and Earth science and History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24360" y="256536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40360" y="4797360"/>
            <a:ext cx="7189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How Long are you in School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07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 Italy you are in school when you are 6-16! We start at 5 not 6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 Elementary you are there for 5 years! We are in Primary for 6 yea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 Kindergarten you are there for 3 years just like 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 Middle School you are there for 3 years but here in N.Z. we are there for 2 yea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nd in High School you are there for 5 yea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580000" y="3068640"/>
            <a:ext cx="593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908000" y="5950080"/>
            <a:ext cx="3765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newsflash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2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How Long are you in School in Each 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 Italy you are in school from 8:30am to 1:30pm in Primary and 8:00am to 1:00pm in High School and when you end school you go home just to have a BIG lunch with your WHOLE family! I wish I lived in Ita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 rot="739800">
            <a:off x="684000" y="4292280"/>
            <a:ext cx="2374920" cy="2081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 rot="20208600">
            <a:off x="6011640" y="4436640"/>
            <a:ext cx="1990440" cy="2000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68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68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6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6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ome Interesting Fac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ake a look at some of these interesting fac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You attend school 6 days a wee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90% of Italian students attend public school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tudents don’t wear school uniform where here in N.Z. we d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Girls are not allowed to wear pants! (Only Skirts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chool is Compulsory so you HAVE to go!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 flipH="1">
            <a:off x="7740720" y="3933720"/>
            <a:ext cx="1154160" cy="1374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6300720" y="2421000"/>
            <a:ext cx="4320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98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98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98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98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98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98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98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cc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at Have I Learnt From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 have learnt many things from this inquiry question about how N.Z. and Italy are different in school education like that in Italy they start school when they are 6 and we start at 5 and that they have totally different subjects to us. So now I know how they are differ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508720" y="48690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My References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wikipedia.org/wiki/Education_in_Italy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library.thinkquest.org/CRO212302/italy.html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Unknown Websi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om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ravel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ope you Enjoyed my Present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y Emily Mein Sm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5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50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5000" fill="hold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5000" fill="hold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30T00:23:18Z</dcterms:created>
  <dc:creator>6g18</dc:creator>
  <dc:description/>
  <dc:language>en-US</dc:language>
  <cp:lastModifiedBy>6g18</cp:lastModifiedBy>
  <dcterms:modified xsi:type="dcterms:W3CDTF">2011-07-13T02:01:12Z</dcterms:modified>
  <cp:revision>10</cp:revision>
  <dc:subject/>
  <dc:title>My Inquiry Question</dc:title>
</cp:coreProperties>
</file>